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E54B-2EDE-4A35-9DDE-D7D956D0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207-6A93-4162-9B48-8AF5B3C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61F-D328-489E-A797-B4551813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FEC-3759-4E9F-91D6-9598AFA2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516-4D3A-4382-9137-4AC1CB5C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15AE-AED0-4BE8-A269-3B0C010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841-0DCD-495D-A7EC-C973911D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031-8610-4E71-B821-3E7EFF0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2FC8-DD8D-4745-911A-8C05A7D9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7A4-08FD-413D-A303-5833E9B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701-EE6E-42A7-88E9-5477F556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AFA-D811-4BCC-8DC3-714A81E5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1F0-CC14-4F9B-B40E-65C685242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352680" y="68580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rumb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447920" y="2514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ny pieces of bread, cake, cracker, or cook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219320" y="43434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got crumbs all over my clothes when I was eating c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kcs user\Local Settings\Temporary Internet Files\Content.IE5\BH6GWFC4\MCj04078180000[1].wmf"/>
          <p:cNvPicPr/>
          <p:nvPr/>
        </p:nvPicPr>
        <p:blipFill>
          <a:blip r:embed="rId1"/>
          <a:stretch/>
        </p:blipFill>
        <p:spPr>
          <a:xfrm>
            <a:off x="0" y="0"/>
            <a:ext cx="35211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724280" y="38088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tiquet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2057400" y="32767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et of rules for correct behav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676520" y="4800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er etiquette is to eat with your mouth clo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kcs user\Local Settings\Temporary Internet Files\Content.IE5\RBXFOIPH\MCj0432341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52584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505320" y="4572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mi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828800" y="2819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copy of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1143000" y="396252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ocery stores make their  imitation of Frosted Flakes cere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kcs user\Local Settings\Temporary Internet Files\Content.IE5\HFUIXQC2\MCj02336810000[1].wmf"/>
          <p:cNvPicPr/>
          <p:nvPr/>
        </p:nvPicPr>
        <p:blipFill>
          <a:blip r:embed="rId1"/>
          <a:stretch/>
        </p:blipFill>
        <p:spPr>
          <a:xfrm>
            <a:off x="0" y="0"/>
            <a:ext cx="2301840" cy="2098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419720" y="3808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752480" y="3581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y kind of s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523880" y="4800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re was a lot of noise coming from the music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kcs user\Local Settings\Temporary Internet Files\Content.IE5\1QBZPOJ9\MCj0415980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2971800" cy="2854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886200" y="3808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lurp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981080" y="38862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e or drank in a nois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828800" y="49528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ayden slurped his drink threw the st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kcs user\Local Settings\Temporary Internet Files\Content.IE5\1QBZPOJ9\MCj04352090000[1].wmf"/>
          <p:cNvPicPr/>
          <p:nvPr/>
        </p:nvPicPr>
        <p:blipFill>
          <a:blip r:embed="rId1"/>
          <a:stretch/>
        </p:blipFill>
        <p:spPr>
          <a:xfrm>
            <a:off x="685800" y="304920"/>
            <a:ext cx="1981080" cy="316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886200" y="3808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pr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676520" y="22096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push and move a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371600" y="39625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a’meer spread the butter on the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Documents and Settings\kcs user\Local Settings\Temporary Internet Files\Content.IE5\HFUIXQC2\MCj0232197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18132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11480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kcs user\Local Settings\Temporary Internet Files\Content.IE5\SZ6733UR\MCj0407984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2871720" cy="304776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3505320" y="228600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k in which music and other sounds have been recorded to be play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143000" y="48769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 grandparents listened to music on rec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4191120" y="457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el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kcs user\Local Settings\Temporary Internet Files\Content.IE5\SZ6733UR\MCj02336120000[1].wmf"/>
          <p:cNvPicPr/>
          <p:nvPr/>
        </p:nvPicPr>
        <p:blipFill>
          <a:blip r:embed="rId1"/>
          <a:stretch/>
        </p:blipFill>
        <p:spPr>
          <a:xfrm>
            <a:off x="380880" y="304920"/>
            <a:ext cx="2141640" cy="2209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505320" y="1981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ype of fab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23880" y="3581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ta’s outfit is made of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733920" y="3049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t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50532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keep saf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286000" y="37339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hers like to protect their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kcs user\Local Settings\Temporary Internet Files\Content.IE5\1QBZPOJ9\MCj04374950000[1].wmf"/>
          <p:cNvPicPr/>
          <p:nvPr/>
        </p:nvPicPr>
        <p:blipFill>
          <a:blip r:embed="rId1"/>
          <a:stretch/>
        </p:blipFill>
        <p:spPr>
          <a:xfrm>
            <a:off x="228600" y="304920"/>
            <a:ext cx="2590920" cy="2681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114800" y="38088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l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905120" y="22096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good mann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60020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not polite to interrupt someone when they are tal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kcs user\Local Settings\Temporary Internet Files\Content.IE5\8L0NF2SB\MCPE01844_0000[1].wmf"/>
          <p:cNvPicPr/>
          <p:nvPr/>
        </p:nvPicPr>
        <p:blipFill>
          <a:blip r:embed="rId1"/>
          <a:stretch/>
        </p:blipFill>
        <p:spPr>
          <a:xfrm>
            <a:off x="0" y="0"/>
            <a:ext cx="236376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324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48:39Z</dcterms:created>
  <dc:creator>kcs user</dc:creator>
  <dc:description/>
  <dc:language>en-US</dc:language>
  <cp:lastModifiedBy>kcs user</cp:lastModifiedBy>
  <dcterms:modified xsi:type="dcterms:W3CDTF">2008-09-15T22:02:57Z</dcterms:modified>
  <cp:revision>5</cp:revision>
  <dc:subject/>
  <dc:title>Slide 1</dc:title>
</cp:coreProperties>
</file>